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EFA7-9192-4469-AFA0-4504BF8B3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9802-C2AC-4521-A0F0-748320E3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ADD4-1B10-48E9-B456-9F226A724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8332-6E75-425B-A7BD-9F9ABA78A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120A-33AE-4E59-BC44-AA0C97E15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83E0-ABB3-4719-A412-873D2703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B102-84EF-4C38-B6CF-3F6755AF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812F-4199-444A-9562-A625FBBB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0839-31FF-4E1E-9EE3-7FBF85E1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9B65-CD7D-450D-A339-BEBF2D33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AFF6-5BD1-4963-B40F-FA84AC67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9AFA-FFA6-4516-BDF0-F7A7DBE6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A712-047F-45EF-B68F-2D83EE3F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8C01-E54E-4E53-B1C9-EB831D52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0FEA-D96B-442A-95CC-FE4F0A1E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5671-0920-471F-9067-0A52ED9B3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43DA-8869-41AF-99CD-3E26D664F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D8AF-C956-4C57-8D32-8B9DFAE3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BFE4-A436-4BEB-9D76-8FBB1E6A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BE1B-CDE8-4419-8BBB-6574C2DB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701B-64A4-41AF-A819-10A45DDD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EC06-9F3B-47AB-9F64-FF7928AA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96B7-1467-414E-ACC6-AF4FEF89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DF76-86A4-4CDB-86AC-022EA78D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5041-C31E-43F0-B78D-42370170C3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A3E5-625A-4D47-90D3-056F30CB59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atient’s Bill of Righ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dical Law and Eth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.  The Patient’s Bill of Rights promotes patient autonom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.  In 1973, the American Hospital Association approved a statement constituting a Patient’s Bill of Rights which guarantees the patient’s right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ive considerate and respectful c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ive complete current information concerning his/her diagnosis, treatment, and pro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ive information necessary to give informed consent prior to the start of any procedure and/or treat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61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use treatment to the extent permitted by the la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ive every consideration of his/her privac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assured of confidentia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 reasonable responses to requests for servi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 information about his/her health c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 whether treatment is experiment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ct reasonable continuity of c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ine his/her bill and have it explain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 which hospital rules and regulations apply to patient condu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I. A copy of the Patient’s Bill of Rights should be readily visible in all hospit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V.  Anyone admitted to a hospital should receive a copy of the Patient’s Bill of Rights at the time of admi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tient also has implied responsibiliti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follow any instructions given by the physician and to cooperate as much as pos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give all relevant information to the physician in order to reach a correct diagn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an incorrect diagnosis is made because the patient fails to give the physician proper information, the physician may not be li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5000" indent="-577800">
              <a:spcBef>
                <a:spcPts val="700"/>
              </a:spcBef>
              <a:buClr>
                <a:srgbClr val="ffffff"/>
              </a:buClr>
              <a:buFont typeface="Arial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follow the physician’s orders for treatment, provided the treatment meets the accepted standard of c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patient willfully or negligently fails to follow the physician’s instructions, that patient may have little legal recou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577800">
              <a:spcBef>
                <a:spcPts val="700"/>
              </a:spcBef>
              <a:buClr>
                <a:srgbClr val="ffffff"/>
              </a:buClr>
              <a:buFont typeface="Arial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pay fees for services rende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6:15:36Z</dcterms:created>
  <dc:creator>anitaw</dc:creator>
  <dc:description/>
  <dc:language>en-US</dc:language>
  <cp:lastModifiedBy>System Admin</cp:lastModifiedBy>
  <dcterms:modified xsi:type="dcterms:W3CDTF">2009-07-29T18:23:34Z</dcterms:modified>
  <cp:revision>3</cp:revision>
  <dc:subject/>
  <dc:title>Patient’s Bill of Rights</dc:title>
</cp:coreProperties>
</file>